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12C-EFE5-4A02-AFCC-C67BE8D1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A25-C0F2-4022-B514-B45BCD75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5010-D7B3-4E37-BCF0-564A7B88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3B4-F5BF-4578-80D9-26A9EE98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CB6E-162E-44EE-ABEB-7A287048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9154-D046-469B-A5D7-9188CD02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5FA1-0E9F-4565-9ADC-A498A889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68B1-A1E5-4EB0-9C07-C8E80260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0B66-E87C-4396-B92F-32E483D1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3D9E-5EFD-43C1-9BDA-6ADBA089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5409-1A06-4B71-B1D0-3D8FAB33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299-5EB0-4BC9-BE3D-53F0FEF5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1AC4-D88E-4A46-9723-51BA16BD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D481-B82E-4A33-9956-421B8BFE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47F7-6879-4E5D-846F-68A745E5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8851-6659-4F64-A0E7-F7ED6FF1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C985-790F-41E7-84F8-27349B57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9BB-AD5F-4AC8-BB04-E1A5C4BC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9C6-E63D-4C91-BA91-2CBAB4EE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CCB-E1C3-418A-9965-BB4B52B8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9E0-A49A-411F-8A6C-1BCD8FBD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06C-862E-4DE2-965E-5696AE01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E17-8771-4F73-9A17-BDF6643E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20A-C273-4E48-B033-5D37F7E5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C72A-D69E-4EFE-A723-9DCE696471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9AC9-ADA9-4809-90C0-1584B5FF3C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лассный час  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освященный Дню защитника Отечеств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в  5 В класс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201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i?id=74264323-07"/>
          <p:cNvPicPr/>
          <p:nvPr/>
        </p:nvPicPr>
        <p:blipFill>
          <a:blip r:embed="rId1"/>
          <a:stretch/>
        </p:blipFill>
        <p:spPr>
          <a:xfrm>
            <a:off x="533520" y="304920"/>
            <a:ext cx="3809880" cy="3733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i?id=127477487-04"/>
          <p:cNvPicPr/>
          <p:nvPr/>
        </p:nvPicPr>
        <p:blipFill>
          <a:blip r:embed="rId2"/>
          <a:stretch/>
        </p:blipFill>
        <p:spPr>
          <a:xfrm>
            <a:off x="4572000" y="3808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14240" y="304560"/>
            <a:ext cx="3352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23 февраля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– красный день календаря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 этот день отца и деда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оздравляет вся семья!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i?id=73307647-04"/>
          <p:cNvPicPr/>
          <p:nvPr/>
        </p:nvPicPr>
        <p:blipFill>
          <a:blip r:embed="rId1"/>
          <a:stretch/>
        </p:blipFill>
        <p:spPr>
          <a:xfrm>
            <a:off x="457200" y="228600"/>
            <a:ext cx="1981080" cy="457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185350315-01"/>
          <p:cNvPicPr/>
          <p:nvPr/>
        </p:nvPicPr>
        <p:blipFill>
          <a:blip r:embed="rId2"/>
          <a:stretch/>
        </p:blipFill>
        <p:spPr>
          <a:xfrm>
            <a:off x="6248520" y="228600"/>
            <a:ext cx="2590560" cy="4343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3200400" y="4952880"/>
            <a:ext cx="2355840" cy="1587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96840" y="328680"/>
            <a:ext cx="9096480" cy="151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407880" y="1547640"/>
            <a:ext cx="84074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БУДЬТЕ МУЖЕСТВЕННЫМИ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6" descr="правда о 23 февраля, или история возникновения мифа"/>
          <p:cNvPicPr/>
          <p:nvPr/>
        </p:nvPicPr>
        <p:blipFill>
          <a:blip r:embed="rId1"/>
          <a:stretch/>
        </p:blipFill>
        <p:spPr>
          <a:xfrm>
            <a:off x="2362320" y="2590920"/>
            <a:ext cx="533376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ИСТОРИЯ ПРАЗДН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9568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начальн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3 феврал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раздновался как день рожден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расной арм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 честь победы под Нарвой и Псковом над немецкими войскам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нь первой победы принялся днем рождения арм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5" descr="i?id=136837392-04"/>
          <p:cNvPicPr/>
          <p:nvPr/>
        </p:nvPicPr>
        <p:blipFill>
          <a:blip r:embed="rId1"/>
          <a:stretch/>
        </p:blipFill>
        <p:spPr>
          <a:xfrm>
            <a:off x="457200" y="213372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Красная армия"/>
          <p:cNvPicPr/>
          <p:nvPr/>
        </p:nvPicPr>
        <p:blipFill>
          <a:blip r:embed="rId1"/>
          <a:stretch/>
        </p:blipFill>
        <p:spPr>
          <a:xfrm>
            <a:off x="5486400" y="457200"/>
            <a:ext cx="3247920" cy="58672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33520" y="1772280"/>
            <a:ext cx="4876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революции этот праздник оказался под запрето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 смену ему 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1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у была учреждена новая да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 февраля – День Красной Арми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724068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1922 года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3 феврал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обрело характер большого всенародн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здника, как День Рождения Красной Арм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2 февраля 1922 год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 Красной площади состоялся парад войск Московского гарнизона, а вечером - торжественное заседание Моссовета совместно с представителями воинских частей Московского гарнизо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i?id=108877333-10"/>
          <p:cNvPicPr/>
          <p:nvPr/>
        </p:nvPicPr>
        <p:blipFill>
          <a:blip r:embed="rId1"/>
          <a:stretch/>
        </p:blipFill>
        <p:spPr>
          <a:xfrm>
            <a:off x="3200400" y="0"/>
            <a:ext cx="3124080" cy="259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i?id=16106486-10"/>
          <p:cNvPicPr/>
          <p:nvPr/>
        </p:nvPicPr>
        <p:blipFill>
          <a:blip r:embed="rId2"/>
          <a:stretch/>
        </p:blipFill>
        <p:spPr>
          <a:xfrm>
            <a:off x="6172200" y="228600"/>
            <a:ext cx="2666880" cy="272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i?id=103402861-08"/>
          <p:cNvPicPr/>
          <p:nvPr/>
        </p:nvPicPr>
        <p:blipFill>
          <a:blip r:embed="rId3"/>
          <a:stretch/>
        </p:blipFill>
        <p:spPr>
          <a:xfrm>
            <a:off x="380880" y="30492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6995160"/>
            <a:ext cx="685800" cy="813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4" descr="С 1946 года праздник стал называться Днем Советской Армии и Военно-Морского Флота"/>
          <p:cNvPicPr/>
          <p:nvPr/>
        </p:nvPicPr>
        <p:blipFill>
          <a:blip r:embed="rId1"/>
          <a:stretch/>
        </p:blipFill>
        <p:spPr>
          <a:xfrm>
            <a:off x="533520" y="380880"/>
            <a:ext cx="3962160" cy="5791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4800600" y="686520"/>
            <a:ext cx="37339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22 году эта дата была официальн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влена Днем Красной Арм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днее 23 феврал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отмечался в СССР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сенародный праздни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нь Советской Армии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енно-Морского Фл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распада Советского Союза да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переименова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ень защитника Отече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1993 года этот праздник ста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ывать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нем Защитника Оте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этом понятии заключен огром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мысл – любить, почит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достойно защищать нашу Отчизну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наши солдаты и офицеры доказал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они с гордостью могут носи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вание Защитника Отечества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праздник для всего народ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ь в каждой семье в это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нь будут звучать поздравлени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брые слова для наших дедо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цов, сыновей, вну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усть их жизнь всегда освещ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ликая слава побед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оссийской Арм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мощь русского оружи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овь и преданность к своей Родин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i?id=76028084-02"/>
          <p:cNvPicPr/>
          <p:nvPr/>
        </p:nvPicPr>
        <p:blipFill>
          <a:blip r:embed="rId1"/>
          <a:stretch/>
        </p:blipFill>
        <p:spPr>
          <a:xfrm>
            <a:off x="6477120" y="3352680"/>
            <a:ext cx="236196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?id=40191216-10"/>
          <p:cNvPicPr/>
          <p:nvPr/>
        </p:nvPicPr>
        <p:blipFill>
          <a:blip r:embed="rId2"/>
          <a:stretch/>
        </p:blipFill>
        <p:spPr>
          <a:xfrm>
            <a:off x="6400800" y="38088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9528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перь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3 феврал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оспринимае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только как праздник военных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теранов представителей силовых структур, но и просто всех муж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ников Родины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ироком смысле этого слов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перь поздравления и пода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этот день принимает кажд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ставитель сильной половины человечества в нашей стран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i?id=24498538-11"/>
          <p:cNvPicPr/>
          <p:nvPr/>
        </p:nvPicPr>
        <p:blipFill>
          <a:blip r:embed="rId1"/>
          <a:stretch/>
        </p:blipFill>
        <p:spPr>
          <a:xfrm>
            <a:off x="5486400" y="3886200"/>
            <a:ext cx="3124080" cy="2666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i?id=153534506-05"/>
          <p:cNvPicPr/>
          <p:nvPr/>
        </p:nvPicPr>
        <p:blipFill>
          <a:blip r:embed="rId2"/>
          <a:stretch/>
        </p:blipFill>
        <p:spPr>
          <a:xfrm>
            <a:off x="5562720" y="304920"/>
            <a:ext cx="3124080" cy="327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ы от всей души поздравляем всех Россиян 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нем защитника Отече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елаем вам и вашим близким крепкого здоровья, счастья и благополучия, пусть вашу жизнь всегда освещает великая слава побед российской армии, сила и мощь русского оружия, любовь и преданность своей Отчиз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i?id=16664188-07"/>
          <p:cNvPicPr/>
          <p:nvPr/>
        </p:nvPicPr>
        <p:blipFill>
          <a:blip r:embed="rId1"/>
          <a:stretch/>
        </p:blipFill>
        <p:spPr>
          <a:xfrm>
            <a:off x="609480" y="4495680"/>
            <a:ext cx="221004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?id=70294558-03"/>
          <p:cNvPicPr/>
          <p:nvPr/>
        </p:nvPicPr>
        <p:blipFill>
          <a:blip r:embed="rId2"/>
          <a:stretch/>
        </p:blipFill>
        <p:spPr>
          <a:xfrm>
            <a:off x="3276720" y="4572000"/>
            <a:ext cx="2361960" cy="188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i?id=24303100-12"/>
          <p:cNvPicPr/>
          <p:nvPr/>
        </p:nvPicPr>
        <p:blipFill>
          <a:blip r:embed="rId3"/>
          <a:stretch/>
        </p:blipFill>
        <p:spPr>
          <a:xfrm>
            <a:off x="6172200" y="457200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4648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до помнить, что это единственный день в календаре страны, позволяющий, соответственно мужчинам - иметь сугубо свой, "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ужск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" праздник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женщинам - лишний раз поблагодарить и поздравить сильную половину человечеств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i?id=114678996-10"/>
          <p:cNvPicPr/>
          <p:nvPr/>
        </p:nvPicPr>
        <p:blipFill>
          <a:blip r:embed="rId1"/>
          <a:stretch/>
        </p:blipFill>
        <p:spPr>
          <a:xfrm>
            <a:off x="5410080" y="380880"/>
            <a:ext cx="3276720" cy="243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i?id=56829628-00"/>
          <p:cNvPicPr/>
          <p:nvPr/>
        </p:nvPicPr>
        <p:blipFill>
          <a:blip r:embed="rId2"/>
          <a:stretch/>
        </p:blipFill>
        <p:spPr>
          <a:xfrm>
            <a:off x="5715000" y="29718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2-17T18:36:4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